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97F9-D5DE-417D-8FF4-10F69F69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79457-96A3-41D9-A80D-1CC84701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5AF2-A71D-4B57-AC94-D1E88CD0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9939-721F-4E3B-9009-EF9222A6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4BE-9F57-4B55-BB6D-FC4EF6E6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51F-A8FC-46CE-B3CB-CB5E2538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70B7-766A-46A5-9A26-EE6B85F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3D7F-6240-4B64-B54D-48284BF7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FB92-465A-42A5-BE6F-85130115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86BB-F176-44D2-845D-113BEEEE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78AE-E378-4927-92AF-288D83C0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5160-2109-4C7E-9040-5BDE1377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A49-EBB1-4249-91FF-536B0B16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D5FB-4503-4C30-9CDB-81309EC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A78-1505-4E48-8CE2-9BF0D56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6ABD-3256-45EE-9E23-430F3F7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2C1-BB6A-46A1-B5A1-88F9C9F9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A150-BC55-4033-B8B0-218BDA10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EA6B-F1FD-457A-B027-02A3E8C4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5998-0701-4382-AA2B-44760E0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DDA2-FB2F-4109-BC2F-58F88898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83F8F-1D09-4AB1-8190-170A74A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8C36-4624-4ECA-A78B-6275FC2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18B4-437D-48B4-89FA-F0C21EA1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3CB-3AF4-40ED-9A77-C1376B44DD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8600"/>
                  </a:gs>
                  <a:gs pos="100000">
                    <a:srgbClr val="4a94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7800"/>
                  </a:gs>
                  <a:gs pos="100000">
                    <a:srgbClr val="4a94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4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9400"/>
                  </a:gs>
                  <a:gs pos="100000">
                    <a:srgbClr val="4081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4a9400"/>
                </a:gs>
                <a:gs pos="100000">
                  <a:srgbClr val="3e7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400"/>
                </a:gs>
                <a:gs pos="100000">
                  <a:srgbClr val="4a9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D003-A5D1-4EB1-A56C-333BB9885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ae8ba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ae8ba"/>
                </a:solidFill>
                <a:latin typeface="Garamond"/>
              </a:rPr>
              <a:t>La clase de espanol</a:t>
            </a:r>
            <a:endParaRPr b="1" lang="en-US" sz="60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0|@|\|d0 y D@|\/|0|\|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ae8ba"/>
                </a:solidFill>
                <a:latin typeface="Old English Text MT"/>
              </a:rPr>
              <a:t>los deportes</a:t>
            </a:r>
            <a:endParaRPr b="1" lang="en-US" sz="48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cer me gust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volleyball no me gust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basketboll me enkanta mush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5181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733920" y="624852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9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ae8ba"/>
                </a:solidFill>
                <a:latin typeface="Old English Text MT"/>
              </a:rPr>
              <a:t>La familia</a:t>
            </a:r>
            <a:endParaRPr b="1" lang="en-US" sz="4400" spc="-1" strike="noStrike">
              <a:solidFill>
                <a:srgbClr val="bae8b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6:58Z</dcterms:created>
  <dc:creator>WSFCS Workstation</dc:creator>
  <dc:description/>
  <dc:language>en-US</dc:language>
  <cp:lastModifiedBy>WSFCS Workstation</cp:lastModifiedBy>
  <dcterms:modified xsi:type="dcterms:W3CDTF">2010-04-28T18:54:24Z</dcterms:modified>
  <cp:revision>4</cp:revision>
  <dc:subject/>
  <dc:title>La clase de espanol</dc:title>
</cp:coreProperties>
</file>